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E45-48C1-447F-B5DF-C8300110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8E69-260F-4283-B8BF-6E3BB27B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A79-5EEB-421D-9B1D-6FBED8CF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776-1B31-4C49-B7EF-2DDCEBCE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36D4-8B0E-4F05-8FF7-A5BFDD71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9D57-A171-4926-B4BC-D0051AAD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C48F-2F86-401F-9CC7-CC7D26AE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747E-5625-448F-B47D-A4537A68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D34D-4203-42C1-86E0-6E17CF53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FC11-8C7F-4053-8BF8-639A5567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F0C3-901E-477C-8F03-2A2A1EDD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4676-9877-4EFB-AC57-5637D48A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0B47-3BC3-4E1A-A20F-95896BCC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19BC-7AAB-4141-946F-4B2ECD27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E14F-00F1-4628-A7D1-E52A7B4E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7E86-7D26-49DC-8527-A9BC9156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E242-1AB8-4953-B81C-331E423B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7C6-BFF7-403B-BF13-C8A67CB7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99E-2D74-46FD-8E80-74484B85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0DA2-0E3A-4291-8C34-D72A9E09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EDB-EE62-48D3-9ACF-7FB09482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0A2B-C2BD-4E41-94E8-DA7C14BB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E64A-05E5-4060-9C8F-37BC7CB2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4B9A-8A01-48A5-BADB-04ACEE55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4A05-3265-42B5-9C6C-31119EB1D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3F88-590C-4639-B6C5-26AD8AFEE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ay we will learn the different responsibilities of the director, producer, cinematographer, and production assis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sponsibilities on the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 Not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r-Must deliver the “product” (the completed film) to the Executive Producer. They must also make sure the director has everything they ne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or-Must make the “product” and deliver it to the Produc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nematographer-Must film/tape the “product” to the liking of the Dir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ion Assistant-Must help all of the above with all of their goals and responsi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ample/Quiz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 movie calls for an aerial shot from a helicopter and the helicopter is late, it’s up to a ________ to call the airport and get it the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cinematographer is spending too much time setting up for a shot, it’s the ______’s job to tell them to speed up.  If they don’t, the _______ will have to get involv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ample/Quiz (Continued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 producer, director, cinematographer, or any other crew member needs anything on or away from the set, they can ask a __________  ___________ to help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oujou</dc:creator>
  <dc:description/>
  <dc:language>en-US</dc:language>
  <cp:lastModifiedBy>Jou Jou</cp:lastModifiedBy>
  <dcterms:modified xsi:type="dcterms:W3CDTF">2011-11-28T13:09:04Z</dcterms:modified>
  <cp:revision>86</cp:revision>
  <dc:subject/>
  <dc:title>Legacy Life Skills</dc:title>
</cp:coreProperties>
</file>